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0F2-EBBF-4E79-B7FC-9686EF10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B9D1-91F5-4252-918C-6ABCE04E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July Training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will be on the test server 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y will see data that is not their REAL data. - they will use dummy account NOT their real log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LIVE address i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Powerschool.cmcss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 NOT GIVE THE LIVE ADDRESS UNTIL AMIE GIVES THE OK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586-5650-40F8-AFDF-199C02D6D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Am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re there contact people for certain problems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n we give those names and email/numbers to the teachers at this ti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0C2-3F96-43E9-A88B-349FCE497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aily bulletin contains newsletter style announcements and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office staff or administrators will prepare the school wide bullet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***When typing up an email for submission to the bulletin be sure to add the date range you want it to displ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6AA-3035-4DBE-8B6A-8DAE7760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6D6-1202-49DA-8694-613B103F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**There is really NO NEED TO MAKE CHANGES IN THE PERSONALIZ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t will function as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115-EF9E-4E07-8DAF-30C177486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8D4-B9B8-45C3-A330-FB312FA0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49B-0AE2-4477-A996-6DDFD54F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fter you click Gradebook in the Menu, the Quick Entry Tips link is located  just above the Launch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Show this feature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Do not use it for training.  Just let them know it is there if they need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y never have to memorize the shortcuts because they can see them everytime they launch the gradebook if they use this fe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FAE-D1E2-4F13-96DA-1A588239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igh School and Middle School will see separate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ary will see separate classes for each su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BE09-A3F2-405A-87E2-198C60B2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By default-PowerTeacher Gradebook opens to the Scoresheet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Very Briefly identify each section. Teachers will work through most during the co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purpose of this slide is to give teachers a point of reference and help then navigate through the gradebook as the course progr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Arial"/>
              </a:rPr>
              <a:t>*The default settings for the gradebook establish the final grade setup as being total points and establishes four types of assignment categories:homework, quiz, test, an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696F-F5D2-48AC-BCF3-15AF20B4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0986-BB17-44FB-B198-F07298F9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mie Wilson will provide dummy account login information for teachers being 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6C9-E647-4719-8EC4-862AF3B6C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int of Contacts will be trained Aug 5. Amie will get BJ and principals to identify a 45 minute session with faculties to set up gradeboo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eople not trained will need basic training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Part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7A45-F3B7-4EC5-AD5F-B67BABF5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categories that are preset are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Qu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may want to add classwork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859-3C1A-48D6-A97C-F581D1F5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categories that are preset are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Qu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may want to add classwork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se categories will be available to all classes or se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f a teacher has multiple courses that require different categories, all of them must be created here.  Then only choose the ones needed in each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Unused categories have no impact on student scores or gr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C37-D0FF-4A9E-ACA3-B79DE4AE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ECK WITH AMIE FOR POLICY INF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t will give us the formula for highschool and some middle schools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fo and examples are available on p 16 of the PowerTeacher manu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t is important to communicate to parents and students how grades are calcul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Because, we are now  webbased and parents have 24/7 access to their student's grades, many principal's are setting school weighting policies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27C-05AA-48BF-9A3A-875BDC73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e are still waiting to see if district policy will be set for this feature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DB5-6241-4DD3-ADC0-F4898D51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43E-D06B-4C30-8045-26F96899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0C1B-5703-4D6A-830A-71F7D9CC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D8F-EA5E-4DED-A7E5-F8E2C283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123-4738-42C4-97E2-C4058F36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B66-F420-41EB-A11D-D552B4AA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s is a web based program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 Software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 Isolated Computer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lease note that Internet Explorer works inconsistently with this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One place to find your MUNIS ID is on your pay stub, top right. It is your Emp. 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LIVE address i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Powerschool.cmcss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9CD4-661E-449B-8C8A-9F92DFB6A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05E7-B1CC-47BD-BC44-3C4381A2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0E5-562C-44C9-AA35-22859C8F8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Say to teachers....</a:t>
            </a: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we understand that one or two items will not be graded by Monday at Midnight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arents will be told to check on Tuesday mornings for previous week's grades in order to provide guidance and intervention for their child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DA8-13E4-4497-BD1C-0F0AC672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n scores are put in for assignments - publish THEN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signments for the previous  week MUST be in by Monday at midnight - parents will be advised to look for them on Tuesday mo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14C9-1A30-4B19-A722-06D24EF5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B0EF-C09A-46E4-9387-34DBABF8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062-E1F4-430E-BB40-0806793A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A83-2300-462B-853A-69AC4A3A6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29A0-566A-446D-9BDA-0671861D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1BC0-F482-4E71-8617-963DB2F3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427F-7267-43A1-98F5-0369898E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CBE8-6A45-4C45-A75D-FA5D28C1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27F-BA87-4B57-B76D-3F91DF90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7FB-A2C0-4921-9EAA-4DAFEAD4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4BF3-E079-462A-AD9E-48ED304DF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366-1E22-429D-A291-E83A0CB6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C9E-2C6E-4DC6-85C4-A3387E107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6EFA-C7D4-4EA1-A255-6BD6FD0E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83B-855D-4B0C-8D46-EEC88EF9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is PRES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You will only click on students absent or tardy to make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Don't forget to click sub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Elementary Takes Attendance once a d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Middle - Most Take Attendance  once a day, if a teacher is at a middle school that takes period atten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Amie will try to fix this iss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igh - Each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DISTRICT POLICY- Attendance in first ten minutes of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ny time a child comes in after school starts with a tardy pass...the office will handle putting in the tar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CB30-6421-4756-AC37-81C5F585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oint out that not all elementary schools still take lunch count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s is only to be used by teachers from the schools who do take lunch cou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For schools who use the lunch count, an office staff member will print and deliver the information to the cafeteria sta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3914-1510-49E9-8861-DD4139EF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ert description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ert a slide telling instructors we will NOT start out using the discipline feature shown as "Submit Log Entry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0DE-649A-4350-94BA-4816232A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Look at different screen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nk about which would be most useful to you most of the tim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Make sure you can navigate to others you might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udent Log Entry - ****Do NOT use this at this time. It is for logging discipline information and may be used at a later 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check on TEacher comments...can this be done from grade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1B8-3520-4C7A-82E4-26EA5880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ailable reports may change or evolve as the year goes 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se are only reports for their own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ecking with D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*Come back to this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442-F6AB-498D-A68B-2E79FA73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B84-54AE-44F9-8848-1C9C967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186-6026-4CE3-AD3E-EB6C0C90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779-AF2D-470B-A7E5-B5A7B02F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AD8-BD46-443A-A0D1-859D464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AC1-CD74-40B6-A982-1605EE5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9AF-55B3-4B22-B7B0-C913587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557-3D36-488F-A741-9F996D4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FE1-BF3A-48B1-BD48-E20E807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F13-5F8B-40C6-88CE-F34E77D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98F-2C32-49A8-8A2E-4D3FE61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7E8-67EA-4532-B7D0-B59EA09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45DB-DFBF-43E8-AD16-0D9C7A897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4680" y="738000"/>
            <a:ext cx="8453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Train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For Classroom Teachers who Take Attendance and/or Give Grad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PowerTeacher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000" y="2209680"/>
            <a:ext cx="96649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To access the PowerTeacher Online Help, click the Help icon, which looks like a question mark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193240" y="914400"/>
            <a:ext cx="10490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aily Bullet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0280" y="820440"/>
            <a:ext cx="915840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not create entries for the daily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read the notices and send a message to the person in charge of maintaining the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ow to View the Daily Bulleti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n the PowerTeacher main menu,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Daily Bulletin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 The Daily Bulletin page displays today's announcements and links to previous bullet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date links at the bottom of the page to view that day's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e-mail address at the bottom of the page to send a message to the person who issues the announcements. Depending on your default e-mail application, an e-mail form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plete the e-mail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end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taff Directory and Meals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NOT use these function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ntinue to contact people from your building using the CMCSS email system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ersonal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2680" y="1066320"/>
            <a:ext cx="9664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hange Password Feature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O NOT CHANGE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efault Student Screen Feature - A teacher can choose which student screen appears first when the BACKPACK icon is clicked. Other screens can then be selected from the Select Screens dropdown menu at the top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isplay Section Number - Choose Yes/No to show or hide section numbers on the Teacher's Homepage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chool/Term Select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9000" y="11430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DEFAULT school is the school to which a teacher is assigned. You will need not to chang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terms will change automatically as the year progresses. You should glance at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term selector 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each time changes are made to ensure the correct term is displa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GradeBook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each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Quick Entry Ti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Select 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Quick Entry Tips </a:t>
            </a: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on the PowerTeacher gradebook just above the Launch Gradebook button for keyboard shortcuts.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ing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00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s must have Java 1.5 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LAUNCH GRADEBOOK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*You may get one or more dialog boxes… Click OK or Trust. (If you click the option to Always Trust it will stop some of the windows from appea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You should then see your Class Grad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eft Marg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es Selection B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oup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p Menu Bar (Tab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Set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ion Window - Shows the "Page" associated with each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Menu Bar-Very Top -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ol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ind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268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PowerTeacher Gradebook is configured for immediate use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several slides cover what you will need to set up once…at the start of each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You will configure the gradebook following district and school policies with your Point of Contact during the first days in y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est Server Login - For Training Only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000" y="152388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best to use Firefox or Safa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est Server Address:</a:t>
            </a: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is is a dummy account login information to be provided on training day for use during training on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                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review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 Weigh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adeBook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ing Gradescales - these are set up by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ing Class Inf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reat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ublish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utput Options- Scoresheets, Statistics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arents' and/or Students' View of PowerSchoo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2680" y="12193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On the gradebook menu bar, choos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Tools &gt; Categories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th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Plus 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(+) button in the lower left corner of the window. Enter your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Close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 (Categories will be sav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9120" y="1074240"/>
            <a:ext cx="966168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AN set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in Final Grade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**Important**** If this box is not checked, it wil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cou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criptions- Category descriptions can be viewed by administrators an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Final Grade Weigh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2680" y="1360080"/>
            <a:ext cx="964908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WILL BE DETERMINED BY DISTRICT OR SCHOOL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must first determine how final term grades will b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Calculation Settings will be provided for you by your point of contact during gradebook setup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1 - Total Points - total points accumulated divided by total points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2 - Term Weights - multiply total points by the value of each 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3 - Category Weights - multiply total points by value of each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nal Grade Set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can be set by clicking on the Grade Setup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setup determines how final grades ar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The final grade is calculated continuously so you always know a students current final gra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hoose the desired reporting term in the upp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the desired calculation method in the low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****You can also decide here if any low scores are dropp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Student Groups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268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EFAUL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group is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ENTIRE CLAS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 S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– is a Collection of Groups.  You must create a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E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before you can mak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GROUP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SET might be Reading or Math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 GROUP - a small collection of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like Reading Group 1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a Set and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LUS button (+) in the lower left hand co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t will automatically create Untitled Set 1 and Untitled Group 1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Set 1 and enter a name for the set, such as Reading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Group 1 and enter a name for the Group, such as Early Readers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f you need to add more Groups under a Set click the PLUS (+) and choose Add Group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eat steps 2-5 until all Sets and Groups are comple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Students to a Gro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0960" y="1015560"/>
            <a:ext cx="96616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97440" indent="-29808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 and Click on a student's n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9808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rag the name of the student to the appropriat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add student to all of the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You CANNOT add a student to more than one GROUP in the same SE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LETING STUDENTS FROM A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a student's name in the group lis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minus (-) button at the bottom lef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OVING STUDENTS BETWEEN GROUPS WITHIN A S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the arrow to the left of the group name to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name of the student you want to move and drag it to the folder for one of the other groups in the s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PT GradeBook Preferences</a:t>
            </a:r>
            <a:br>
              <a:rPr sz="4300"/>
            </a:b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o set how grades are calculated and stored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0040" y="2168640"/>
            <a:ext cx="96616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OWERTEACHER GRADEBOOK menu (MAC) or the TOOLS menu (PC) at the top and select PREFEREN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options to meet school or district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ounded - EX. 89.75 would be rounded to 90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cimal Places - Select how many decimal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Viewing Gradesca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****The gradescale is determined by the district and will be loaded in the GradeBook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o View the Grade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Tools menu, and click Grade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DEFAULT gradescale will be viewabl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3040" y="609120"/>
            <a:ext cx="9661680" cy="19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ging into PowerTeacher- For Actual Use of Gradebook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9120" y="2057040"/>
            <a:ext cx="96616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444"/>
                </a:solidFill>
                <a:latin typeface="Arial"/>
              </a:rPr>
              <a:t>User Name: Your MUNIS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444"/>
                </a:solidFill>
                <a:latin typeface="Arial"/>
              </a:rPr>
              <a:t>Password: FL****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(firstlastinital and last 4 of your SS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Never SHARE your User Name or PASSWORD with ANYONE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444444"/>
                </a:solidFill>
                <a:uFillTx/>
                <a:latin typeface="Arial"/>
              </a:rPr>
              <a:t>DO NOT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 change your passwor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Editing and Viewing Class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Choose a class from the Classes Pane (Top Le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lick the CLASS INFO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3. You can add a description of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ype in the description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dd a web link if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***Remember that descriptions can be viewed by the administrators, students, and parents.  This can be very useful, but BE CAREFUL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640" y="1723680"/>
            <a:ext cx="84535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Adding Assign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726920" y="3047760"/>
            <a:ext cx="660852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Most of the GradeBook items covered prior to this ar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one-time set-u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he following slides cover th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daily</a:t>
            </a: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 adding of assignments and grades, and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istrict Grade Publishing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  All graded assignments MUST be published!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By Midnight every Monday, all assignments from the previous week MUST be published!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est Practice: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  Timely Feedback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y current in grading, recording, and publishing assignments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Parents will be told to check on Tuesday mornings for previous week's grades in order to provide guidance and intervention for their childr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2680" y="11430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dd Assignment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1. Select a class, then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ssignments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or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coresheet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2.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lus (+)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button. 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3. Click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4. Click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ublish T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5. Click Drop Down to set date to be pu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-33228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Immediately is the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-33228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NEVER is not an op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ame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ange the abbreviation name if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the category to which the assignment belo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Score type and Points Possible are preset based on the category information you ch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ight- you can assign a weight to an assignment.  *Remember that you have already set weights for catego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ue Date - The default due date is today's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 the box to "include in final grad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 the assignment descriptio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eleting an Assign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12193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ighlight the assignment by clicking on its h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Click the Minus (-) button next to the assignment header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You will get an "Are You Sure?" dialog box. Click de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A deleted assignment CANNOT be retrieved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What You Will See on the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hen you have chos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Class (Top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Group (Middle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ter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ing Term (be carefu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ategory (Al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 (Activ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will see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ist of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 Sc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Grades to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0960" y="1131840"/>
            <a:ext cx="96616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class or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the Reporting Term and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dd scores fo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Sa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Once you save, the current Final Grade will upd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PY ASSIGNMENTS, DELETE ASSIGNMENTS, FILL SCORES, AND/OR CLEAR SCORES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 title at the top of the colum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ight click or Control Cli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desired 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ublish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1252440"/>
            <a:ext cx="96616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Assignments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Select the assignment you want to publish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Assignmen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-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menu, choose when to publish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n Specific Dat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date the assignment should appear 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te On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5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number of days the assignment should appear prior to the date that it is due i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6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lter A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680" y="1142640"/>
            <a:ext cx="9370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ools, Select Score Insp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he  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240" y="1095120"/>
            <a:ext cx="977400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Icon - (Top Left) Click this icon anytime to return to the Start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Classes Window - (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Chair - Atten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e Dot - Attendance Completion Indica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tensils - Lunch Coun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ackpack - Student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er - Print Class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nu - (Left Margin) - Links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rt Page, Daily Bulletin, Staff Directory, Meals, Personalize, Gradebook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ool/Term Selectors - (Top 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iece of Paper - (Top Right) - Report Que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estion Mark - (Top Right) - PowerTeacher 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ogout - (Top Right) -  Click to exit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885080" y="595440"/>
            <a:ext cx="191916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881920" y="4214880"/>
            <a:ext cx="111456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 the Score Inspect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9800" y="1145880"/>
            <a:ext cx="966132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pen the Score Inspec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rk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 Or, ope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lick in the assignment column of th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student for whom you want to enter 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ssignment stat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press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checkbox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 a Final Grade Com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9120" y="170352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Ope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upd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Manually enter final grade comments i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eld and/or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Bank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elect one or more predefin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mments. Use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N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rrows to repeat for each student, 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pplicab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nually Override Final Grad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0520" y="1190520"/>
            <a:ext cx="96408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a term from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Filter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Reporting Term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Open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pdate. The final grade field app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ighligh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4. Select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Manual Overrid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box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nter the new grade in the appropri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and enter any comments i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if applicable. Use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Nex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rrows to repeat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ach student, if applic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Reports Availab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8080" y="1066320"/>
            <a:ext cx="9804240" cy="59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he following reports are available on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gradebook Reports tab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Attendance Gr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ategory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Final Grad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Verifica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Individual Student Repo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issing Assignment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ulti-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 Roster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To access the PowerTeacher gradebook Online Help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click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44444"/>
                </a:solidFill>
                <a:latin typeface="Arial"/>
              </a:rPr>
              <a:t>Help &gt; Conten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on the menu bar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ou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LOGOU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y clicking on the logout button at the top of the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s should make it a habit to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gout after entering or viewing data.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*If a teacher does not logout, private student information may be available to anyone with access to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aking Attend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2680" y="1523520"/>
            <a:ext cx="97347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n attendance indicator (chair) icon appears next to each class. The color of the dot indicates whether or not you've taken attendance for that cla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chair icon next to the class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hich you want to take attendan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the appropriate attendance code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urrent attendance cod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up menu.  A=Absent or T=Tard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the cell next to each student who is absent or tardy to insert the code you chose from the pop-up men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26200" y="95400"/>
            <a:ext cx="271476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ubmitting Lunch Cou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( Elementary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utensil icon next to the class for which you want to submit a lunch cou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Enter the lunch counts in the field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927920" y="228600"/>
            <a:ext cx="1913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Student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backpack icon next to the class you want to view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lick the student’s na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a student page to access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elect Screen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Have a look at the Select Screens you may choo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8037360" y="182520"/>
            <a:ext cx="20304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lect Screens  *******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mulative Grade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eting Attenda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et/Phone Access Summary - Parent and student acce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 a Repor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ick Look-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e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Pho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Log Entry - ***Do NOT use thi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 Com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rinting School Reports or Report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676160"/>
            <a:ext cx="966168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Your school creates the reports available to you in Power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printer icon next to the class for which you want to print a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hoose the report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Which report would you like to pri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the watermark text (optional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Choose when you want PowerSchool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repare your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823160" y="5943600"/>
            <a:ext cx="17780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elen.gooch</cp:lastModifiedBy>
  <dcterms:modified xsi:type="dcterms:W3CDTF">2008-07-08T14:45:08Z</dcterms:modified>
  <cp:revision>14</cp:revision>
  <dc:subject/>
  <dc:title>PowerPoint Presentation</dc:title>
</cp:coreProperties>
</file>